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media/image1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8843-C66B-471B-9AB6-EAA51469E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0E2A-9254-4FAE-A53F-FE42F040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15C-33FD-46CB-A916-13E32FFD5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4A64-CCAB-4839-9B59-D1F11934E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FBAB-5382-406E-B678-0D2601518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4F5E-0AE6-463B-BD82-57E07DBC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F70-361D-4845-8CA0-B319E4396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3AEF-0F3F-4C63-AAE6-FDE0589CE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694-D4BC-4F42-9E64-14E722211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91A7-5A21-4A9E-B411-CF16DDA4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2C8D-7009-4963-BD53-457456A0B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43EF-4095-4540-A549-E9564D7E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6BE96-C93A-4C3E-83BF-BC0741C1E4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datas/zhivotnye/Domashnie-5.files/0009-009-Korova.jpg" TargetMode="External"/><Relationship Id="rId3" Type="http://schemas.openxmlformats.org/officeDocument/2006/relationships/hyperlink" Target="http://art5.karelia.ru/photo/16/161/8963.jpg" TargetMode="External"/><Relationship Id="rId4" Type="http://schemas.openxmlformats.org/officeDocument/2006/relationships/hyperlink" Target="http://www.doodoo.ru/uploads/posts/2009-04/fox-54.jpg" TargetMode="External"/><Relationship Id="rId5" Type="http://schemas.openxmlformats.org/officeDocument/2006/relationships/hyperlink" Target="http://www.myjulia.ru/data/cache/2010/04/21/396815_8221-800x600.jpg" TargetMode="External"/><Relationship Id="rId6" Type="http://schemas.openxmlformats.org/officeDocument/2006/relationships/hyperlink" Target="http://dic.academic.ru/pictures/wiki/files/80/Passer_domesticus_m.jpg" TargetMode="External"/><Relationship Id="rId7" Type="http://schemas.openxmlformats.org/officeDocument/2006/relationships/hyperlink" Target="http://www.kinfolksacrosstheriver.com/000802_c815_0056_cslp.jpg" TargetMode="External"/><Relationship Id="rId8" Type="http://schemas.openxmlformats.org/officeDocument/2006/relationships/hyperlink" Target="http://podari-ulibku.narod.ru/os18088.jpg" TargetMode="External"/><Relationship Id="rId9" Type="http://schemas.openxmlformats.org/officeDocument/2006/relationships/hyperlink" Target="http://bird.geoman.ru/books/item/f00/s00/z0000003/st027.shtml" TargetMode="External"/><Relationship Id="rId10" Type="http://schemas.openxmlformats.org/officeDocument/2006/relationships/hyperlink" Target="http://www.collection-figurines.com/images/schleich-chevrenaine13601.jpg" TargetMode="External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04068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47760" y="3808440"/>
            <a:ext cx="8543880" cy="21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Кодирование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00ff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80000" y="3357720"/>
            <a:ext cx="1404720" cy="250560"/>
          </a:xfrm>
          <a:prstGeom prst="rect">
            <a:avLst/>
          </a:prstGeom>
          <a:solidFill>
            <a:srgbClr val="ffa8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51280" y="3249720"/>
            <a:ext cx="14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2500"/>
                </a:solidFill>
                <a:latin typeface="Times New Roman"/>
                <a:ea typeface="Times New Roman"/>
              </a:rPr>
              <a:t>часть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140360" y="1881360"/>
            <a:ext cx="755640" cy="4680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31640" y="0"/>
            <a:ext cx="8229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точни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1268280"/>
            <a:ext cx="9144000" cy="54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598320" indent="-34272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ячев А. В., Горина К. И., Волкова Т. О. Информатика в играх и задачах. 2-й класс в 2-х частях: Учебник-тетрадь, часть 2. – М.: Баласс, 2005. – 80с. –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BN5-85939-135-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http://900igr.net/datas/zhivotnye/Domashnie-5.files/0009-009-Korova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http://art5.karelia.ru/photo/16/161/8963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осёно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http://www.doodoo.ru/uploads/posts/2009-04/fox-54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http://www.myjulia.ru/data/cache/2010/04/21/396815_8221-800x600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рокод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http://dic.academic.ru/pictures/wiki/files/80/Passer_domesticus_m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ороб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http://www.kinfolksacrosstheriver.com/000802_c815_0056_cslp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ету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http://podari-ulibku.narod.ru/os18088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ш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http://bird.geoman.ru/books/item/f00/s00/z0000003/st027.shtml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асточ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99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http://www.collection-figurines.com/images/schleich-chevrenaine13601.jpg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img.labirint.ru/images/comments_pic/0838/02lab949v1221627212.jpg кур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brocgaus.ru/pictures/010/379_1.jpg  бегемо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8nature/mamm/048.jpg вол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98320" indent="-3427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ecosystema.ru/07referats/tiger/014.jpg тиг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708360" y="907920"/>
            <a:ext cx="453564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Презентацию подготовила</a:t>
            </a:r>
            <a:endParaRPr b="1" i="1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211640" y="1773360"/>
            <a:ext cx="3887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ffff"/>
                    </a:gs>
                  </a:gsLst>
                  <a:lin ang="13500000"/>
                </a:gradFill>
                <a:latin typeface="Arial"/>
              </a:rPr>
              <a:t>Поспелова Г.В.</a:t>
            </a:r>
            <a:endParaRPr b="0" i="1" lang="en-US" sz="1800" spc="1" strike="noStrike">
              <a:ln w="1908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ffff"/>
                  </a:gs>
                </a:gsLst>
                <a:lin ang="13500000"/>
              </a:gradFill>
              <a:latin typeface="Arial"/>
              <a:ea typeface="Arial"/>
            </a:endParaRPr>
          </a:p>
        </p:txBody>
      </p:sp>
      <p:sp>
        <p:nvSpPr>
          <p:cNvPr id="293" name=""/>
          <p:cNvSpPr txBox="1"/>
          <p:nvPr/>
        </p:nvSpPr>
        <p:spPr>
          <a:xfrm rot="21430800">
            <a:off x="684000" y="5157360"/>
            <a:ext cx="792000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"/>
              </a:rPr>
              <a:t>Желаю всем приятного просмотра!!!</a:t>
            </a:r>
            <a:endParaRPr b="1" i="1" lang="en-US" sz="4000" spc="1" strike="noStrike">
              <a:ln w="2844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"/>
              <a:ea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348000" y="2781360"/>
            <a:ext cx="5327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Учитель информатики МОУ «СОШ № 20</a:t>
            </a:r>
            <a:r>
              <a:rPr b="1" i="1" lang="en-US" sz="2400" spc="-1" strike="noStrike">
                <a:solidFill>
                  <a:srgbClr val="0000cc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           </a:t>
            </a: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г. Новомосковск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cc"/>
                </a:solidFill>
                <a:latin typeface="Arial"/>
              </a:rPr>
              <a:t>Тульская область, 2011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971640" y="1197000"/>
            <a:ext cx="2016000" cy="30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шифруй слова и закрась соответствующие предм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9640" y="297000"/>
            <a:ext cx="774036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39640" y="1592280"/>
          <a:ext cx="4068720" cy="2549520"/>
        </p:xfrm>
        <a:graphic>
          <a:graphicData uri="http://schemas.openxmlformats.org/drawingml/2006/table">
            <a:tbl>
              <a:tblPr/>
              <a:tblGrid>
                <a:gridCol w="647640"/>
                <a:gridCol w="576360"/>
                <a:gridCol w="504720"/>
                <a:gridCol w="576360"/>
                <a:gridCol w="574560"/>
                <a:gridCol w="613080"/>
                <a:gridCol w="57600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71928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835280" y="418464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6000" y="224172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6000" y="1736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9236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68136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3176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16000" y="2708280"/>
            <a:ext cx="360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40000" y="4184640"/>
            <a:ext cx="35892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916360" y="4184640"/>
            <a:ext cx="3585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59280" y="1592280"/>
            <a:ext cx="1488960" cy="1162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896000" y="2924280"/>
            <a:ext cx="1050840" cy="1154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867280" y="2384280"/>
            <a:ext cx="1560600" cy="18306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451640" y="1665360"/>
            <a:ext cx="1357560" cy="13572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7920000" y="2997360"/>
            <a:ext cx="689040" cy="105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" name=""/>
          <p:cNvGraphicFramePr/>
          <p:nvPr/>
        </p:nvGraphicFramePr>
        <p:xfrm>
          <a:off x="395280" y="4797360"/>
          <a:ext cx="4176720" cy="1008000"/>
        </p:xfrm>
        <a:graphic>
          <a:graphicData uri="http://schemas.openxmlformats.org/drawingml/2006/table">
            <a:tbl>
              <a:tblPr/>
              <a:tblGrid>
                <a:gridCol w="792000"/>
                <a:gridCol w="792360"/>
                <a:gridCol w="792000"/>
                <a:gridCol w="900360"/>
                <a:gridCol w="90000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1,5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2,2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5111640" y="4797360"/>
          <a:ext cx="2927520" cy="1000080"/>
        </p:xfrm>
        <a:graphic>
          <a:graphicData uri="http://schemas.openxmlformats.org/drawingml/2006/table">
            <a:tbl>
              <a:tblPr/>
              <a:tblGrid>
                <a:gridCol w="911160"/>
                <a:gridCol w="1008000"/>
                <a:gridCol w="10083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5,4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3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6,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43164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3276360" y="1952280"/>
            <a:ext cx="3636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844640"/>
            <a:ext cx="251928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224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36836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01600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2400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14560" y="530064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51280" y="533700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80000" y="530064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851280" y="533700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2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537372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9640" y="5335560"/>
            <a:ext cx="68436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92720" y="5408640"/>
            <a:ext cx="5763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128000" y="5337000"/>
            <a:ext cx="684000" cy="433440"/>
          </a:xfrm>
          <a:prstGeom prst="rect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201080" y="5373720"/>
            <a:ext cx="57600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 flipV="1">
            <a:off x="1655640" y="2491920"/>
            <a:ext cx="36720" cy="18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1640" y="2421000"/>
            <a:ext cx="324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384280"/>
            <a:ext cx="900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42920" y="1915920"/>
            <a:ext cx="0" cy="2484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584360" y="3465360"/>
            <a:ext cx="0" cy="9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1640" y="1881360"/>
            <a:ext cx="3589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1640" y="3357720"/>
            <a:ext cx="900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848720" y="2997360"/>
            <a:ext cx="826920" cy="115236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80360" y="1700280"/>
            <a:ext cx="1439640" cy="1224000"/>
          </a:xfrm>
          <a:prstGeom prst="rect">
            <a:avLst/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1116000" y="2529000"/>
            <a:ext cx="0" cy="1944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0"/>
                            </p:stCondLst>
                            <p:childTnLst>
                              <p:par>
                                <p:cTn id="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50920" y="333360"/>
            <a:ext cx="468360" cy="4669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79640" y="297000"/>
            <a:ext cx="266364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333360"/>
            <a:ext cx="34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5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згадай ребус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40360" y="260280"/>
            <a:ext cx="1047600" cy="18716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184720" y="260280"/>
            <a:ext cx="1047960" cy="1871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047960" cy="1871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816360" y="225360"/>
            <a:ext cx="5076720" cy="2016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04000" y="1665360"/>
            <a:ext cx="5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272360" y="476280"/>
            <a:ext cx="1871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кота Ж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72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3280" y="202392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1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197080" y="198900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6836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95280" y="3321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8360" y="335772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95640" y="335772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268360" y="3392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58920" y="4616280"/>
            <a:ext cx="158436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465300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2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58920" y="4653000"/>
            <a:ext cx="158436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468936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3964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Р один 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68360" y="1449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семь 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1640" y="27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три бу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32000" y="28162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О пя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404172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ПО два 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158920" y="4113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сем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3681360"/>
            <a:ext cx="1513080" cy="172728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1727280"/>
              <a:gd name="textAreaBottom" fmla="*/ 1653480 h 1727280"/>
            </a:gdLst>
            <a:ahLst/>
            <a:rect l="textAreaLeft" t="textAreaTop" r="textAreaRight" b="textAreaBottom"/>
            <a:pathLst>
              <a:path w="21600" h="24657">
                <a:moveTo>
                  <a:pt x="3600" y="0"/>
                </a:moveTo>
                <a:arcTo wR="3600" hR="3600" stAng="16200000" swAng="-5400000"/>
                <a:lnTo>
                  <a:pt x="0" y="21057"/>
                </a:lnTo>
                <a:arcTo wR="3600" hR="3600" stAng="10800000" swAng="-5400000"/>
                <a:lnTo>
                  <a:pt x="18000" y="246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72000" y="3500280"/>
            <a:ext cx="1836720" cy="2052720"/>
          </a:xfrm>
          <a:custGeom>
            <a:avLst/>
            <a:gdLst>
              <a:gd name="textAreaLeft" fmla="*/ 89640 w 1836720"/>
              <a:gd name="textAreaRight" fmla="*/ 1747080 w 1836720"/>
              <a:gd name="textAreaTop" fmla="*/ 89640 h 2052720"/>
              <a:gd name="textAreaBottom" fmla="*/ 1963080 h 2052720"/>
            </a:gdLst>
            <a:ahLst/>
            <a:rect l="textAreaLeft" t="textAreaTop" r="textAreaRight" b="textAreaBottom"/>
            <a:pathLst>
              <a:path w="21600" h="24140">
                <a:moveTo>
                  <a:pt x="3600" y="0"/>
                </a:moveTo>
                <a:arcTo wR="3600" hR="3600" stAng="16200000" swAng="-5400000"/>
                <a:lnTo>
                  <a:pt x="0" y="20540"/>
                </a:lnTo>
                <a:arcTo wR="3600" hR="3600" stAng="10800000" swAng="-5400000"/>
                <a:lnTo>
                  <a:pt x="18000" y="2414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380360" y="3716280"/>
            <a:ext cx="1476360" cy="1765440"/>
          </a:xfrm>
          <a:custGeom>
            <a:avLst/>
            <a:gdLst>
              <a:gd name="textAreaLeft" fmla="*/ 72000 w 1476360"/>
              <a:gd name="textAreaRight" fmla="*/ 1404360 w 1476360"/>
              <a:gd name="textAreaTop" fmla="*/ 72000 h 1765440"/>
              <a:gd name="textAreaBottom" fmla="*/ 1693440 h 1765440"/>
            </a:gdLst>
            <a:ahLst/>
            <a:rect l="textAreaLeft" t="textAreaTop" r="textAreaRight" b="textAreaBottom"/>
            <a:pathLst>
              <a:path w="21600" h="25828">
                <a:moveTo>
                  <a:pt x="3600" y="0"/>
                </a:moveTo>
                <a:arcTo wR="3600" hR="3600" stAng="16200000" swAng="-5400000"/>
                <a:lnTo>
                  <a:pt x="0" y="22228"/>
                </a:lnTo>
                <a:arcTo wR="3600" hR="3600" stAng="10800000" swAng="-5400000"/>
                <a:lnTo>
                  <a:pt x="18000" y="258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59280" y="3933720"/>
            <a:ext cx="1332000" cy="133200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03640" y="4365720"/>
            <a:ext cx="100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64000" y="5553000"/>
            <a:ext cx="1800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в О Р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40720" y="4149720"/>
            <a:ext cx="792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775640" y="3933720"/>
            <a:ext cx="6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5573880" y="3716280"/>
            <a:ext cx="1596960" cy="17654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084720" y="4508640"/>
            <a:ext cx="7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43640" y="2924280"/>
            <a:ext cx="1512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коро в 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343640" y="5624640"/>
            <a:ext cx="151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на Р 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87280" y="368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7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Т, РЫБА, ОКУНЬ, ЛЕС, ИГЛА, К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5280" y="303372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48        </a:t>
            </a: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Раскрась каждую букву своим цветом. Зашифруй цветными квадратиками слова: ДЕЛО, КИНО, М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755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3068640"/>
            <a:ext cx="8532720" cy="792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92000" y="368280"/>
            <a:ext cx="0" cy="539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900000" y="3068640"/>
            <a:ext cx="0" cy="396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358560" y="3500280"/>
            <a:ext cx="54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16000" y="4005360"/>
            <a:ext cx="71928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56360" y="4005360"/>
            <a:ext cx="72072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77080" y="4005360"/>
            <a:ext cx="68256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1368360" y="4005360"/>
            <a:ext cx="64764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55640" y="5661000"/>
            <a:ext cx="53964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661000"/>
            <a:ext cx="57636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71640" y="5661000"/>
            <a:ext cx="468360" cy="5763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340000" y="5661000"/>
            <a:ext cx="53964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076720" y="5661000"/>
            <a:ext cx="57492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767640" y="5661000"/>
            <a:ext cx="54108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812000" y="5661000"/>
            <a:ext cx="540000" cy="576360"/>
          </a:xfrm>
          <a:prstGeom prst="rect">
            <a:avLst/>
          </a:pr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0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500"/>
                            </p:stCondLst>
                            <p:childTnLst>
                              <p:par>
                                <p:cTn id="3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2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20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4000"/>
                            </p:stCondLst>
                            <p:childTnLst>
                              <p:par>
                                <p:cTn id="4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6000"/>
                            </p:stCondLst>
                            <p:childTnLst>
                              <p:par>
                                <p:cTn id="4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2000"/>
                            </p:stCondLst>
                            <p:childTnLst>
                              <p:par>
                                <p:cTn id="4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40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60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2000"/>
                            </p:stCondLst>
                            <p:childTnLst>
                              <p:par>
                                <p:cTn id="4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4000"/>
                            </p:stCondLst>
                            <p:childTnLst>
                              <p:par>
                                <p:cTn id="4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6000"/>
                            </p:stCondLst>
                            <p:childTnLst>
                              <p:par>
                                <p:cTn id="5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87280" y="40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о первым буквам написанных слов прочти новое сл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576360" y="1844640"/>
          <a:ext cx="8229600" cy="865080"/>
        </p:xfrm>
        <a:graphic>
          <a:graphicData uri="http://schemas.openxmlformats.org/drawingml/2006/table">
            <a:tbl>
              <a:tblPr/>
              <a:tblGrid>
                <a:gridCol w="1028520"/>
                <a:gridCol w="1028880"/>
                <a:gridCol w="1028520"/>
                <a:gridCol w="1028880"/>
                <a:gridCol w="1028520"/>
                <a:gridCol w="1028880"/>
                <a:gridCol w="1028520"/>
                <a:gridCol w="102888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К, ЧАШКА, ЕНОТ, БАРС, НОТА, ИРИС, КО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63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06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87964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256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0920" y="1952640"/>
            <a:ext cx="61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904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5280" y="303372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Прочти слова, зашифрованные цветными квадратик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792000" y="4005360"/>
          <a:ext cx="6732720" cy="865080"/>
        </p:xfrm>
        <a:graphic>
          <a:graphicData uri="http://schemas.openxmlformats.org/drawingml/2006/table">
            <a:tbl>
              <a:tblPr/>
              <a:tblGrid>
                <a:gridCol w="576360"/>
                <a:gridCol w="676440"/>
                <a:gridCol w="690480"/>
                <a:gridCol w="684360"/>
                <a:gridCol w="647640"/>
                <a:gridCol w="649080"/>
                <a:gridCol w="684360"/>
                <a:gridCol w="755640"/>
                <a:gridCol w="684000"/>
                <a:gridCol w="684360"/>
              </a:tblGrid>
              <a:tr h="86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8" name=""/>
          <p:cNvSpPr/>
          <p:nvPr/>
        </p:nvSpPr>
        <p:spPr>
          <a:xfrm>
            <a:off x="8269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7636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400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456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140360" y="4076640"/>
            <a:ext cx="46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788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0872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912000" y="407664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92720" y="4113360"/>
            <a:ext cx="4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755640" y="5661000"/>
          <a:ext cx="159372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920"/>
                <a:gridCol w="50292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9" name=""/>
          <p:cNvSpPr/>
          <p:nvPr/>
        </p:nvSpPr>
        <p:spPr>
          <a:xfrm>
            <a:off x="287280" y="368280"/>
            <a:ext cx="853272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3068640"/>
            <a:ext cx="8532720" cy="539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92000" y="4005360"/>
            <a:ext cx="576360" cy="86364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050920" y="4005360"/>
            <a:ext cx="684360" cy="86364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35280" y="4005360"/>
            <a:ext cx="684360" cy="86364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19640" y="4005360"/>
            <a:ext cx="647640" cy="86364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67280" y="4005360"/>
            <a:ext cx="647640" cy="86364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716360" y="4005360"/>
            <a:ext cx="684360" cy="86364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00720" y="4005360"/>
            <a:ext cx="755640" cy="86364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4005360"/>
            <a:ext cx="684000" cy="863640"/>
          </a:xfrm>
          <a:prstGeom prst="rect">
            <a:avLst/>
          </a:prstGeom>
          <a:solidFill>
            <a:srgbClr val="66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840360" y="4005360"/>
            <a:ext cx="719280" cy="86364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49236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6227640" y="5661000"/>
          <a:ext cx="2135160" cy="568440"/>
        </p:xfrm>
        <a:graphic>
          <a:graphicData uri="http://schemas.openxmlformats.org/drawingml/2006/table">
            <a:tbl>
              <a:tblPr/>
              <a:tblGrid>
                <a:gridCol w="542880"/>
                <a:gridCol w="547560"/>
                <a:gridCol w="503280"/>
                <a:gridCol w="541440"/>
              </a:tblGrid>
              <a:tr h="568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2" name=""/>
          <p:cNvSpPr/>
          <p:nvPr/>
        </p:nvSpPr>
        <p:spPr>
          <a:xfrm>
            <a:off x="1368360" y="4005360"/>
            <a:ext cx="682560" cy="86364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12000" y="1952640"/>
            <a:ext cx="61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5640" y="5661000"/>
            <a:ext cx="54144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295280" y="5661000"/>
            <a:ext cx="540000" cy="576360"/>
          </a:xfrm>
          <a:prstGeom prst="rect">
            <a:avLst/>
          </a:prstGeom>
          <a:solidFill>
            <a:srgbClr val="ffff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835280" y="5661000"/>
            <a:ext cx="541080" cy="576360"/>
          </a:xfrm>
          <a:prstGeom prst="rect">
            <a:avLst/>
          </a:prstGeom>
          <a:solidFill>
            <a:srgbClr val="336699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49236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032360" y="5661000"/>
            <a:ext cx="53964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0" y="5661000"/>
            <a:ext cx="504720" cy="576360"/>
          </a:xfrm>
          <a:prstGeom prst="rect">
            <a:avLst/>
          </a:prstGeom>
          <a:solidFill>
            <a:srgbClr val="0033cc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6720" y="5661000"/>
            <a:ext cx="540000" cy="576360"/>
          </a:xfrm>
          <a:prstGeom prst="rect">
            <a:avLst/>
          </a:prstGeom>
          <a:solidFill>
            <a:srgbClr val="6633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227640" y="5661000"/>
            <a:ext cx="540000" cy="576360"/>
          </a:xfrm>
          <a:prstGeom prst="rect">
            <a:avLst/>
          </a:prstGeom>
          <a:solidFill>
            <a:srgbClr val="ff0066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6767640" y="5661000"/>
            <a:ext cx="541080" cy="574560"/>
          </a:xfrm>
          <a:prstGeom prst="rect">
            <a:avLst/>
          </a:prstGeom>
          <a:solidFill>
            <a:srgbClr val="0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308720" y="5661000"/>
            <a:ext cx="503280" cy="576360"/>
          </a:xfrm>
          <a:prstGeom prst="rect">
            <a:avLst/>
          </a:prstGeom>
          <a:solidFill>
            <a:srgbClr val="bbe0e3">
              <a:alpha val="7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812000" y="5661000"/>
            <a:ext cx="576360" cy="576360"/>
          </a:xfrm>
          <a:prstGeom prst="rect">
            <a:avLst/>
          </a:prstGeom>
          <a:solidFill>
            <a:srgbClr val="808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19280" y="5121360"/>
            <a:ext cx="16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  Е  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2360" y="5049720"/>
            <a:ext cx="21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 К  Н  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264360" y="5013360"/>
            <a:ext cx="21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 Л  А   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2000"/>
                            </p:stCondLst>
                            <p:childTnLst>
                              <p:par>
                                <p:cTn id="5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1500"/>
                            </p:stCondLst>
                            <p:childTnLst>
                              <p:par>
                                <p:cTn id="5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8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5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2500"/>
                            </p:stCondLst>
                            <p:childTnLst>
                              <p:par>
                                <p:cTn id="6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4500"/>
                            </p:stCondLst>
                            <p:childTnLst>
                              <p:par>
                                <p:cTn id="6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2448000" y="2852640"/>
          <a:ext cx="4186080" cy="3651120"/>
        </p:xfrm>
        <a:graphic>
          <a:graphicData uri="http://schemas.openxmlformats.org/drawingml/2006/table">
            <a:tbl>
              <a:tblPr/>
              <a:tblGrid>
                <a:gridCol w="262080"/>
                <a:gridCol w="288720"/>
                <a:gridCol w="287280"/>
                <a:gridCol w="324000"/>
                <a:gridCol w="360360"/>
                <a:gridCol w="360360"/>
                <a:gridCol w="395280"/>
                <a:gridCol w="396720"/>
                <a:gridCol w="360360"/>
                <a:gridCol w="395280"/>
                <a:gridCol w="397080"/>
                <a:gridCol w="35856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9" name=""/>
          <p:cNvSpPr/>
          <p:nvPr/>
        </p:nvSpPr>
        <p:spPr>
          <a:xfrm>
            <a:off x="863640" y="51264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ктант по клеточк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63640" y="512640"/>
            <a:ext cx="576360" cy="468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763640" y="476280"/>
            <a:ext cx="3240000" cy="5763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64000" y="4905360"/>
            <a:ext cx="108000" cy="144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19280" y="141300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328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5092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9236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340000" y="126828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311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99564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680000" y="141300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292720" y="123336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431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104256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1726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241092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095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370800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4427280" y="1916280"/>
            <a:ext cx="468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11164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56360" y="1881360"/>
            <a:ext cx="468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04000" y="169992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192720" y="1665000"/>
            <a:ext cx="0" cy="431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600360" y="5336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3600360" y="504936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0764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994920" y="4976640"/>
            <a:ext cx="289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9640" y="5300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9640" y="501336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1964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5056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148360" y="5589720"/>
            <a:ext cx="39672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71280" y="558972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867280" y="5589720"/>
            <a:ext cx="0" cy="28872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435564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478764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518436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550836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323820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634920" y="5877000"/>
            <a:ext cx="39708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958920" y="587700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3276720" y="5552640"/>
            <a:ext cx="0" cy="28908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0" y="5624640"/>
            <a:ext cx="360360" cy="0"/>
          </a:xfrm>
          <a:prstGeom prst="line">
            <a:avLst/>
          </a:prstGeom>
          <a:ln w="381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0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1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6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16000" y="184464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3, 46, 49 стр. 1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1511280" y="981000"/>
            <a:ext cx="608508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a603ab">
                        <a:alpha val="50196"/>
                      </a:srgbClr>
                    </a:gs>
                    <a:gs pos="50000">
                      <a:srgbClr val="a603ab"/>
                    </a:gs>
                    <a:gs pos="100000">
                      <a:srgbClr val="a603ab">
                        <a:alpha val="50196"/>
                      </a:srgbClr>
                    </a:gs>
                  </a:gsLst>
                  <a:lin ang="135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Спасибо за урок!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a603ab">
                      <a:alpha val="50196"/>
                    </a:srgbClr>
                  </a:gs>
                  <a:gs pos="50000">
                    <a:srgbClr val="a603ab"/>
                  </a:gs>
                  <a:gs pos="100000">
                    <a:srgbClr val="a603ab">
                      <a:alpha val="50196"/>
                    </a:srgbClr>
                  </a:gs>
                </a:gsLst>
                <a:lin ang="135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800360" y="1844640"/>
            <a:ext cx="6072120" cy="455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250920" y="1125360"/>
            <a:ext cx="8677080" cy="53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У каждого ученика на столе карточки (зеленая, желтая, красная). Уходя из класса, нужно оставить на столе учителя одну из ни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Зеле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Я удовлетворен уроком, урок был полезен для меня, я много, с пользой работал на уроке получил заслуженную оценку, я понимал все, о чем говорилось на у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Желтая</a:t>
            </a: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- Урок был интересен, я принимал в нем активное участие, урок был в определенной степени полезен для меня, я отвечал с места, я сумел выполнить ряд заданий, мне было на уроке достаточно комфор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расная</a:t>
            </a:r>
            <a:r>
              <a:rPr b="0" lang="en-US" sz="24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 - Пользы от урока я получил мало, я не очень понимал, о чем идет речь, мне это не очень нужно, домашнее задание я не буду выполнять, к ответам на уроке я не был го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268360" y="33336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c004c"/>
                </a:solidFill>
                <a:latin typeface="Times New Roman"/>
                <a:ea typeface="Times New Roman"/>
              </a:rPr>
              <a:t>Рефлекс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4T07:19:18Z</dcterms:created>
  <dc:creator>122</dc:creator>
  <dc:description/>
  <dc:language>en-US</dc:language>
  <cp:lastModifiedBy>122</cp:lastModifiedBy>
  <dcterms:modified xsi:type="dcterms:W3CDTF">2011-02-25T21:53:16Z</dcterms:modified>
  <cp:revision>13</cp:revision>
  <dc:subject/>
  <dc:title>Слайд 1</dc:title>
</cp:coreProperties>
</file>